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8D7-8217-4CFB-86D4-4BC3EF4919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w is named for Charles Boyle, who studied the relationship betwe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, in the mid-160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nstant temperature and amount of gas, you can use these relationships to predict changes in pressur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109-2E07-4E3C-AABD-B5CD2DC484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ce units are different sizes, use ratios to conve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the pressure reduces the volume by half.  Conversely, when the volume doubles, the pressure decreases by 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4E3-0E94-4AC7-AA12-48BBCAB5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653-5F24-4CF4-9C15-B245904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AA4-953F-4593-86C7-C6837E30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102-A328-4F15-A0AE-BDD09806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DC3-D0B3-4478-BCD3-D691636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46F-54D1-4FDA-A6A9-4909050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B86-C926-4C34-B153-C556F87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F11-E4F3-4F9F-BB2D-5837DA4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A1D-2B22-41A0-93D6-282A4040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AE3-14D3-4213-9936-64D2A63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B1B-C325-47D5-B300-2527DE1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8D4-5562-488C-B899-80CA15C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C9D-84D4-4496-912B-87B73697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Reca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hoe exerts mo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 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543640" cy="326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0520" y="623736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g. 424 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le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nstruct a graph of P versus 1/ V  , we get a   straight line, with a slope of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lope of the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, and since the initial and final conditions are both equal to k, we can writ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8920" y="1773360"/>
            <a:ext cx="374508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le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 determined that for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gas at const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* V =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efines an inverse relationship: when one goes up, the other  com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OYLES LAW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’s Law can be used to predict the interaction of pressure and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3 out of 4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₁ and V₁ are the pressure and the volume of the gas for the initial set of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₂ and V₂ are the pressure and volume of the gas for the final set of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 your strategy…Act on Your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52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16280"/>
            <a:ext cx="1600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1989000"/>
            <a:ext cx="1528560" cy="10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1916280"/>
            <a:ext cx="1600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4149720"/>
            <a:ext cx="2089080" cy="6476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ather balloon with a volume of 2.00 x 10³ L at a pressure of 96.3 kPa rises to an altitude of 1.00 × 10³ m, where the atmospheric pressure is measured at 60.8 kPa. Assuming there is no change in the temperature or amount of gas, what is the final volume of the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6237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ing Boyle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By step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volume, V₂, of the balloon after th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initial pressure on the balloon, P₁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initial volume of the balloon,    V₁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final pressure on the balloon,   P₂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re is no change in temperature or amount of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nd volume are changing at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and amount of gas. Therefore,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for Boyle’s law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the variable for final volume, V₂.  Divide each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Boyle’s law equation by P₂and isolate V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stitute the number and units for the known variables in the formula and solve. (Watch units!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nal volume of the balloon is _____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5 L of nitrogen at 25ºC and 742 torr are compressed to 9.8 atm at constant T. What is the new volu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.6 mL of carbon dioxide at  740 torr is expanded at constant temperature to 750 mL. What is the final pressure in kP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7280" y="501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434 #1-4  p. 435 #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yle’s Law (Summariz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a constant temperature, the volume of a fixed mass of gas is inversely proportional to its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is, if volume increases, pressure is reduc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to the sub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cabulary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tmosph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(S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ssure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at sea leve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60.00mmHg = 760.00 torr= 1.0000 atm = 101.33 KPa=14.7 p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value of 750.0-mm Hg atmospheric pressure in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Requir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nalyz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DEMO)The Cartesian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queezed the bottle, what happened to the contents of the eye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position of the eye 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released the bottle, what happened to the contents of the eye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position of the eyedropp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2252" t="0" r="0" b="0"/>
          <a:stretch/>
        </p:blipFill>
        <p:spPr>
          <a:xfrm>
            <a:off x="7524720" y="4005360"/>
            <a:ext cx="11746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6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and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3883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Boyle determined the relationship between P and V in 196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le’s law 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constant temperature the volume of a gas is inversely proportional to the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1"/>
          <a:srcRect l="0" t="7376" r="0" b="5783"/>
          <a:stretch/>
        </p:blipFill>
        <p:spPr>
          <a:xfrm>
            <a:off x="1763640" y="2924280"/>
            <a:ext cx="5351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and Volume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591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Predictions. Establishing a relationsh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essure is increased twice, what would you predict would happen to the volu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7481880" y="4724280"/>
            <a:ext cx="534960" cy="1727280"/>
          </a:xfrm>
          <a:prstGeom prst="upArrow">
            <a:avLst>
              <a:gd name="adj1" fmla="val 50000"/>
              <a:gd name="adj2" fmla="val 80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8244000" y="4724280"/>
            <a:ext cx="534960" cy="1727280"/>
          </a:xfrm>
          <a:prstGeom prst="downArrow">
            <a:avLst>
              <a:gd name="adj1" fmla="val 50000"/>
              <a:gd name="adj2" fmla="val 80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95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pg 432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and Volume Relationship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form for the equation of a straight line that passes through the origin of a graph 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=   m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ubstituting 1/P (1/pressure)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 (volume) for y a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=   k (1/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k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3:12:04Z</dcterms:created>
  <dc:creator>Natalya</dc:creator>
  <dc:description/>
  <dc:language>en-US</dc:language>
  <cp:lastModifiedBy>Natalya</cp:lastModifiedBy>
  <dcterms:modified xsi:type="dcterms:W3CDTF">2011-12-15T21:22:48Z</dcterms:modified>
  <cp:revision>22</cp:revision>
  <dc:subject/>
  <dc:title>Relationship between  pressure and Volume</dc:title>
</cp:coreProperties>
</file>